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89E-F381-400F-AEFF-EB4A1EC6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2D2-0542-41EA-9F3B-043FE093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A8F-0EBA-4498-8EAD-46413982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6CF-578D-49B8-A551-DADC23D1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181-5E39-44FF-A7FA-D081D2D0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35F-F8BD-461B-9356-41D912BC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7A5-4118-4A4E-9E76-C7E0436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321-2911-427D-953B-2843FFE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C29-730A-4944-8D71-864A8492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198-E99F-460F-9C9C-E523A96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CAE-1791-478C-B5B3-FB577068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CC7-D666-4DA1-A5EA-8EF1AF1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EFE8-7911-4D50-BDF3-2F2B57E64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s o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19320" y="2362320"/>
            <a:ext cx="6476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at Energ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Phase Changes Depend on Energ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3" descr="phase changes.jpg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5059440"/>
          </a:xfrm>
          <a:prstGeom prst="rect">
            <a:avLst/>
          </a:prstGeom>
          <a:ln w="0">
            <a:noFill/>
          </a:ln>
        </p:spPr>
      </p:pic>
      <p:sp>
        <p:nvSpPr>
          <p:cNvPr id="67" name="Oval Callout 4"/>
          <p:cNvSpPr/>
          <p:nvPr/>
        </p:nvSpPr>
        <p:spPr>
          <a:xfrm>
            <a:off x="380880" y="3962520"/>
            <a:ext cx="2514600" cy="1447560"/>
          </a:xfrm>
          <a:prstGeom prst="wedgeEllipseCallout">
            <a:avLst>
              <a:gd name="adj1" fmla="val 63180"/>
              <a:gd name="adj2" fmla="val -326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ding Heat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Callout 5"/>
          <p:cNvSpPr/>
          <p:nvPr/>
        </p:nvSpPr>
        <p:spPr>
          <a:xfrm>
            <a:off x="6705720" y="2819520"/>
            <a:ext cx="2438280" cy="1447560"/>
          </a:xfrm>
          <a:prstGeom prst="wedgeEllipseCallout">
            <a:avLst>
              <a:gd name="adj1" fmla="val -60055"/>
              <a:gd name="adj2" fmla="val 5814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emoving Heat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solid liq gas.jpg"/>
          <p:cNvPicPr/>
          <p:nvPr/>
        </p:nvPicPr>
        <p:blipFill>
          <a:blip r:embed="rId1"/>
          <a:stretch/>
        </p:blipFill>
        <p:spPr>
          <a:xfrm>
            <a:off x="4618080" y="152280"/>
            <a:ext cx="3992400" cy="6654960"/>
          </a:xfrm>
          <a:prstGeom prst="rect">
            <a:avLst/>
          </a:prstGeom>
          <a:ln w="0">
            <a:noFill/>
          </a:ln>
        </p:spPr>
      </p:pic>
      <p:sp>
        <p:nvSpPr>
          <p:cNvPr id="71" name="Right Arrow 4"/>
          <p:cNvSpPr/>
          <p:nvPr/>
        </p:nvSpPr>
        <p:spPr>
          <a:xfrm>
            <a:off x="228600" y="838080"/>
            <a:ext cx="4343400" cy="1752840"/>
          </a:xfrm>
          <a:prstGeom prst="rightArrow">
            <a:avLst>
              <a:gd name="adj1" fmla="val 48806"/>
              <a:gd name="adj2" fmla="val 499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5"/>
          <p:cNvSpPr/>
          <p:nvPr/>
        </p:nvSpPr>
        <p:spPr>
          <a:xfrm>
            <a:off x="228600" y="3124080"/>
            <a:ext cx="4343400" cy="18288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6"/>
          <p:cNvSpPr/>
          <p:nvPr/>
        </p:nvSpPr>
        <p:spPr>
          <a:xfrm>
            <a:off x="228600" y="5105520"/>
            <a:ext cx="4343400" cy="17524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28600" y="12952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motion; VERY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of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38098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ly moving; definite volume; forces of attraction btw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28600" y="5562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les vibrating about fixed positions; very strong forces of att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3" descr="phase change triangle.jpg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haroni"/>
                <a:ea typeface="Aharoni"/>
              </a:rPr>
              <a:t>Heating Cu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3" descr="heating curve.jpg"/>
          <p:cNvPicPr/>
          <p:nvPr/>
        </p:nvPicPr>
        <p:blipFill>
          <a:blip r:embed="rId1"/>
          <a:stretch/>
        </p:blipFill>
        <p:spPr>
          <a:xfrm>
            <a:off x="325440" y="1301760"/>
            <a:ext cx="8666280" cy="5022720"/>
          </a:xfrm>
          <a:prstGeom prst="rect">
            <a:avLst/>
          </a:prstGeom>
          <a:ln w="0">
            <a:noFill/>
          </a:ln>
        </p:spPr>
      </p:pic>
      <p:sp>
        <p:nvSpPr>
          <p:cNvPr id="81" name="Oval Callout 4"/>
          <p:cNvSpPr/>
          <p:nvPr/>
        </p:nvSpPr>
        <p:spPr>
          <a:xfrm>
            <a:off x="6019920" y="3124080"/>
            <a:ext cx="2819160" cy="1371600"/>
          </a:xfrm>
          <a:prstGeom prst="wedgeEllipseCallout">
            <a:avLst>
              <a:gd name="adj1" fmla="val -67430"/>
              <a:gd name="adj2" fmla="val -5474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 is NOT chang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 not chang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Callout 5"/>
          <p:cNvSpPr/>
          <p:nvPr/>
        </p:nvSpPr>
        <p:spPr>
          <a:xfrm>
            <a:off x="1295280" y="2133720"/>
            <a:ext cx="2514600" cy="1752480"/>
          </a:xfrm>
          <a:prstGeom prst="wedgeEllipseCallout">
            <a:avLst>
              <a:gd name="adj1" fmla="val 18199"/>
              <a:gd name="adj2" fmla="val 71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 DOES NOT CHANGE during a phase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veuse"/>
              </a:rPr>
              <a:t>Cooling Cu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labeled cooling curve.gif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ring a phas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phase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DOES NOT chan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 does NOT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does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s of attraction i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energy is being added/removed; energy is being used to weaken or strengthen forces of attraction NOT to increase or decrease KE of p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meltng ice.jpg"/>
          <p:cNvPicPr/>
          <p:nvPr/>
        </p:nvPicPr>
        <p:blipFill>
          <a:blip r:embed="rId1"/>
          <a:stretch/>
        </p:blipFill>
        <p:spPr>
          <a:xfrm>
            <a:off x="208080" y="146160"/>
            <a:ext cx="3595680" cy="5413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elting iron.jpg"/>
          <p:cNvPicPr/>
          <p:nvPr/>
        </p:nvPicPr>
        <p:blipFill>
          <a:blip r:embed="rId2"/>
          <a:stretch/>
        </p:blipFill>
        <p:spPr>
          <a:xfrm>
            <a:off x="4395960" y="225360"/>
            <a:ext cx="3632040" cy="5181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2960" y="3276720"/>
            <a:ext cx="8256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l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 energy is added to break up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ces of attraction between the solid p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cles move more fre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ting Point and Freezing poin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the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sa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empera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epends on whether hea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being added or remove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3" descr="evap1.jpg"/>
          <p:cNvPicPr/>
          <p:nvPr/>
        </p:nvPicPr>
        <p:blipFill>
          <a:blip r:embed="rId1"/>
          <a:stretch/>
        </p:blipFill>
        <p:spPr>
          <a:xfrm>
            <a:off x="152280" y="304920"/>
            <a:ext cx="4519800" cy="2361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4" descr="evap2.jpg"/>
          <p:cNvPicPr/>
          <p:nvPr/>
        </p:nvPicPr>
        <p:blipFill>
          <a:blip r:embed="rId2"/>
          <a:stretch/>
        </p:blipFill>
        <p:spPr>
          <a:xfrm>
            <a:off x="4681440" y="85680"/>
            <a:ext cx="3992760" cy="303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boiling1.jpg"/>
          <p:cNvPicPr/>
          <p:nvPr/>
        </p:nvPicPr>
        <p:blipFill>
          <a:blip r:embed="rId3"/>
          <a:stretch/>
        </p:blipFill>
        <p:spPr>
          <a:xfrm>
            <a:off x="208080" y="3041640"/>
            <a:ext cx="301608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3200400" y="3071880"/>
            <a:ext cx="569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poration and Boiling/Vaporization are NOT  the same thing!  They are both a phase change from liquid to solid, but evaporation can happen below the boiling point and onl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 are esca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 can only happen at a particular temperature and requires a much higher input of heat energy. Particl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rougho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iquid are esca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veuse"/>
              </a:rPr>
              <a:t>SUBLI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3" descr="sublimation diagram.jpg"/>
          <p:cNvPicPr/>
          <p:nvPr/>
        </p:nvPicPr>
        <p:blipFill>
          <a:blip r:embed="rId1"/>
          <a:stretch/>
        </p:blipFill>
        <p:spPr>
          <a:xfrm>
            <a:off x="990720" y="914400"/>
            <a:ext cx="6933960" cy="384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ry ice sublimation.jpg"/>
          <p:cNvPicPr/>
          <p:nvPr/>
        </p:nvPicPr>
        <p:blipFill>
          <a:blip r:embed="rId2"/>
          <a:stretch/>
        </p:blipFill>
        <p:spPr>
          <a:xfrm>
            <a:off x="2414520" y="4870440"/>
            <a:ext cx="3353040" cy="3719520"/>
          </a:xfrm>
          <a:prstGeom prst="rect">
            <a:avLst/>
          </a:prstGeom>
          <a:ln w="0">
            <a:noFill/>
          </a:ln>
        </p:spPr>
      </p:pic>
      <p:sp>
        <p:nvSpPr>
          <p:cNvPr id="99" name="Oval Callout 5"/>
          <p:cNvSpPr/>
          <p:nvPr/>
        </p:nvSpPr>
        <p:spPr>
          <a:xfrm>
            <a:off x="6095880" y="4876920"/>
            <a:ext cx="2286000" cy="1447560"/>
          </a:xfrm>
          <a:prstGeom prst="wedgeEllipseCallout">
            <a:avLst>
              <a:gd name="adj1" fmla="val -70787"/>
              <a:gd name="adj2" fmla="val 3056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Biondi"/>
                <a:ea typeface="Aharoni"/>
              </a:rPr>
              <a:t>Dry 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Biondi"/>
              </a:rPr>
              <a:t>Condens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condensation.bmp"/>
          <p:cNvPicPr/>
          <p:nvPr/>
        </p:nvPicPr>
        <p:blipFill>
          <a:blip r:embed="rId1"/>
          <a:stretch/>
        </p:blipFill>
        <p:spPr>
          <a:xfrm>
            <a:off x="457200" y="1295280"/>
            <a:ext cx="3733920" cy="27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4" descr="condensation2.jpg"/>
          <p:cNvPicPr/>
          <p:nvPr/>
        </p:nvPicPr>
        <p:blipFill>
          <a:blip r:embed="rId2"/>
          <a:stretch/>
        </p:blipFill>
        <p:spPr>
          <a:xfrm>
            <a:off x="4419720" y="1295280"/>
            <a:ext cx="413676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Box 5"/>
          <p:cNvSpPr/>
          <p:nvPr/>
        </p:nvSpPr>
        <p:spPr>
          <a:xfrm>
            <a:off x="263160" y="4572000"/>
            <a:ext cx="857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 water vapor molecules cool off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low down, they get close enough to cl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gether and change phase to liqu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acity to do wor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to produc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Kinetic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energy of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otential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energy of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rmal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a form of KE caused by random internal motion of particl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ontent Placeholder 3" descr="cooling curve.jpg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150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ecific H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perty of matter  that is unique to each element or compound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does not depend on the amount of matter present, so is 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ns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so called 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at capac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mount of energy needed to raise the temperature of 1 g of a substance by 1 degree Celsi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ula for Specific H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 = mc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“heat” and is measured in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mass and is measured in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specific heat and is measured in …(see next slid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(“delta T”) is “change in temperature” and is measured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it for Specific H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what is the unit for “c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rearrange the formu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Q = 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erms of c (we call this “deriv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 = Q / m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units in Chemistry and Physics come from the formulas that they’r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fore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 = Q / m</a:t>
            </a:r>
            <a:r>
              <a:rPr b="1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038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4197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2670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483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ecific Heat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has 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xtremely hig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heat capacity”, which in plain language, means that it takes a lot of energy to heat it up and it has a tremendous ability to retain heat (aka: takes a lot to cool it d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specific heat of water is 4.18 J/g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hich you may recognize as 1 cal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morize thi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That’s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affects your life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ason it tends to be cooler at the ocean than in the valley is due to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36000">
                <a:solidFill>
                  <a:srgbClr val="ffffff"/>
                </a:solidFill>
                <a:latin typeface="Arial"/>
              </a:rPr>
              <a:t>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ason that hurricanes get stronger over warm water is that they’re deriving their energy from the heat contained in the water (maybe that doesn’t affect you every day); it gives them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ason a steam burn is worse than a regular  burn is due to the energy in the s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n you think of other exampl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inder: Law of Conservation of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know tha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nergy cannot be created or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know tha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at is a form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…it must be true th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at lost by one substance must be “accountable” by another substa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r substances, 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 lost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= Q 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g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Q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los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g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f Q = 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it must be tru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) 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lost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= (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) 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g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that’s the foundation for our next lab: “Specific Heat of a Met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-Lab: Specific Heat of a Me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: You will be given a sample of a metal.  You will have to determine its specific h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lready know the specific heat of water (4.18 J/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will use the concept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los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(mc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gain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solve for the unknown c for the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b: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ecific Heat of a 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gain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gained by wa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lost by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a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=      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0" y="3429000"/>
            <a:ext cx="9144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m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90720" y="4343400"/>
            <a:ext cx="91440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u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“c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4.18 J/g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133720" y="3733920"/>
            <a:ext cx="12189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itial temp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 before the metal was added; the final temp af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metal heats it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505320" y="434340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 the mass of the 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721760" y="3886200"/>
            <a:ext cx="116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u will 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“c”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477120" y="3048120"/>
            <a:ext cx="190476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f the me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arts at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oiling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f water, that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ur T</a:t>
            </a:r>
            <a:r>
              <a:rPr b="1" lang="en-US" sz="1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emp after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 has sto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ising has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emp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tal as well, 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at is T</a:t>
            </a:r>
            <a:r>
              <a:rPr b="1" lang="en-US" sz="1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762120" y="3429000"/>
            <a:ext cx="53316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1219320" y="3962520"/>
            <a:ext cx="38088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1905120" y="34290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4267080" y="3352680"/>
            <a:ext cx="457200" cy="990720"/>
          </a:xfrm>
          <a:prstGeom prst="upArrow">
            <a:avLst>
              <a:gd name="adj1" fmla="val 50000"/>
              <a:gd name="adj2" fmla="val 54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4876920" y="3276720"/>
            <a:ext cx="152280" cy="533160"/>
          </a:xfrm>
          <a:prstGeom prst="up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181480" y="3352680"/>
            <a:ext cx="53352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5562720" y="3581280"/>
            <a:ext cx="4572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962520" y="41148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orm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measured in calories (cal) 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ou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cal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.184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Cal = 1000 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ame as tempera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measure of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inetic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s ar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hrenhe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lsi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entigrade) 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l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Thermometers"/>
          <p:cNvPicPr/>
          <p:nvPr/>
        </p:nvPicPr>
        <p:blipFill>
          <a:blip r:embed="rId1"/>
          <a:stretch/>
        </p:blipFill>
        <p:spPr>
          <a:xfrm>
            <a:off x="838080" y="85680"/>
            <a:ext cx="74678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solute Z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esponds to ab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273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(theoretical) point at which the motion of particles of matter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ir kinetic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c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re about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ost applications in Chemistry, we will use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si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t least one topic for which we must change our temperature units to Kelvins – that is 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 La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Kelvin scale there is no “zero” and no negative values.  That becomes important in calculations involving gases, since a negative temp might make it look like, in calculations, that there is a negativ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w of Conservation of Energy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4"/>
          <p:cNvSpPr/>
          <p:nvPr/>
        </p:nvSpPr>
        <p:spPr>
          <a:xfrm>
            <a:off x="1066680" y="13716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nergy is neither created nor destroyed…it j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5"/>
          <p:cNvSpPr/>
          <p:nvPr/>
        </p:nvSpPr>
        <p:spPr>
          <a:xfrm>
            <a:off x="495288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x Highlight"/>
              </a:rPr>
              <a:t>Changes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6"/>
          <p:cNvSpPr/>
          <p:nvPr/>
        </p:nvSpPr>
        <p:spPr>
          <a:xfrm>
            <a:off x="1447920" y="396252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record a reading as, for example, 102.3 degrees Celsius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 -   if we were to record a temperature using the Kelvin scale, we would simply state, for example, “275 Kelvins” 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degrees kelvi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7"/>
          <p:cNvSpPr/>
          <p:nvPr/>
        </p:nvSpPr>
        <p:spPr>
          <a:xfrm>
            <a:off x="11430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By the 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 = K – 27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o therefo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  = 5/9 (F – 32)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F = (9/5</a:t>
            </a:r>
            <a:r>
              <a:rPr b="1" lang="en-US" sz="4000" spc="-1" strike="noStrike" baseline="4000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) + 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520" y="3809880"/>
            <a:ext cx="350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.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 = ___ 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= ___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90 K = ___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= ___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76720" y="411480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Temperature “Sense” –    Memorize th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m Temp in C:  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 Temp in C:  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iling Pt/Freezing Pt:   10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276720" y="4038480"/>
            <a:ext cx="533376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jluckey</cp:lastModifiedBy>
  <dcterms:modified xsi:type="dcterms:W3CDTF">2011-05-15T23:05:23Z</dcterms:modified>
  <cp:revision>128</cp:revision>
  <dc:subject/>
  <dc:title>Significant Figures</dc:title>
</cp:coreProperties>
</file>